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281-6974-405A-9246-57F4DE6D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3B6-F2FC-4254-8861-9BFED476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BF7-E93F-410C-892A-C7B7BE2B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2BE-B02B-44A9-B679-CDD23FEF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2D0A-32F2-4A81-8777-CD3FBFE0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3A24-E65E-463F-B8F8-486B1EF8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5CDB-5C60-4F6F-B173-6DC14408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48A2-6839-4E22-BA88-A0CC6DB1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152C-D5F2-49DA-978F-024B8D63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1D9D-BE3F-465C-A673-FFA5BB98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58AF-2CC9-48A3-9FF1-23642E57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BB7-5B2C-4835-AB90-C72A616A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1212-9650-488B-8CA7-263BE19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78CE-BC2D-40C5-87EE-620B3D0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7977-8473-46EF-A85F-33EEA395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FFD3-4B07-4129-843C-1E441C9D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2291-8369-487E-B6D8-1603749B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658-3BFF-4D65-B43F-66960BBF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7A3-3659-4EB2-A502-5B8C3E4A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1F6-4F69-4108-A196-CC15358C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EAA-0F28-4654-BEEA-5C315B88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DB3-C609-4B28-8962-1DA3128E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FE1-7B0A-456B-AAD3-F0CEDC16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AA3-C4AA-410B-BDB7-4093725A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95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1ACE-3602-457B-90EB-219F8D7379E5}" type="slidenum"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B351-80B8-4E2C-AD67-658C6B51F15C}" type="slidenum"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6140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7:23:44Z</dcterms:created>
  <dc:creator>jeanne butcher</dc:creator>
  <dc:description/>
  <cp:keywords/>
  <dc:language>en-US</dc:language>
  <cp:lastModifiedBy>jeanne butcher</cp:lastModifiedBy>
  <dcterms:modified xsi:type="dcterms:W3CDTF">2007-07-15T20:41:5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71033</vt:lpwstr>
  </property>
</Properties>
</file>